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04065"/>
        <c:axId val="28658024"/>
      </c:barChart>
      <c:catAx>
        <c:axId val="87804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58024"/>
        <c:crosses val="autoZero"/>
        <c:auto val="1"/>
        <c:lblAlgn val="ctr"/>
        <c:lblOffset val="100"/>
        <c:noMultiLvlLbl val="0"/>
      </c:catAx>
      <c:valAx>
        <c:axId val="28658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04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FED-74C2-48B6-9FFC-7B55C8B2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708-E52E-4AB9-B4F9-637CECDD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7EC-E883-408B-B038-19FF481C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73B-D0E3-4B7E-9B96-66D8BD24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133-7943-42A8-BBE5-4C1EDF54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502-49CB-4B0E-B011-A97A53A3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38B-AC50-4CC1-9016-046882A9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854-7909-4DD4-9AD3-44D4B9F2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62A-5BD6-4DD6-A83F-3BCD496A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B76-1501-4786-ACD2-28322C7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6CE-37AE-4A02-B12C-6BC3911F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47C-B102-4C9F-9421-9C9F27AF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4EFAA-50F2-4821-9A3C-94A4A2B99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