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29616"/>
        <c:axId val="36522112"/>
      </c:barChart>
      <c:catAx>
        <c:axId val="88229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22112"/>
        <c:crosses val="autoZero"/>
        <c:auto val="1"/>
        <c:lblAlgn val="ctr"/>
        <c:lblOffset val="100"/>
        <c:noMultiLvlLbl val="0"/>
      </c:catAx>
      <c:valAx>
        <c:axId val="36522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29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DCE-CD96-4408-9605-A953762B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973-2E25-4912-85D3-DED1D900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C57-5AC2-4C74-A5FB-F8155EDA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6AB-7B55-47D6-AAC1-B90589C1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A7E-F80A-48A9-98EE-82972E4D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023-7EBF-4FCA-A33B-CFDEA016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377-9E09-47DA-8A67-A2B1FD24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33A-EC1A-4533-BA8B-8A501D19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A19-3EDC-47DE-9BF3-B2FB2F67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CE3-398F-4FE9-A908-45A37DED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D90-6BCB-4A8B-B325-6A1542D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775-124C-41BE-8727-0000DF4D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543F5-1EF7-493D-98D1-494A7A5083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