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47133"/>
        <c:axId val="4603731"/>
      </c:barChart>
      <c:catAx>
        <c:axId val="42547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3731"/>
        <c:crosses val="autoZero"/>
        <c:auto val="1"/>
        <c:lblAlgn val="ctr"/>
        <c:lblOffset val="100"/>
        <c:noMultiLvlLbl val="0"/>
      </c:catAx>
      <c:valAx>
        <c:axId val="4603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7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8FD-615A-4EC6-B8F6-C910F9E6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1E2-87FF-47EB-8C8F-FF9E3377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F4A-D098-44C3-8040-95A3412D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472-FBF3-4A33-AE80-B1EBAE55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DCC-C4F5-48FA-BEFC-ADD15C4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67A-9EAF-4EA9-887C-C24C674D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5AA-591D-46BB-8BF8-F5A18E32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AA9-F18E-4EF2-82DB-AF64C04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2B9-2FAC-4398-9047-3E1ABC8E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463-DAC1-46F0-AA5F-B8BEB10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A5D-A1FB-431B-8E35-5735D9C9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95D-C44E-482F-8E18-528BE24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418B2-6054-40E5-8B88-36A57BC268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