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77260"/>
        <c:axId val="97903180"/>
      </c:barChart>
      <c:catAx>
        <c:axId val="87477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03180"/>
        <c:crosses val="autoZero"/>
        <c:auto val="1"/>
        <c:lblAlgn val="ctr"/>
        <c:lblOffset val="100"/>
        <c:noMultiLvlLbl val="0"/>
      </c:catAx>
      <c:valAx>
        <c:axId val="97903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77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1B49-C79A-40F8-85E1-2E9029FA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E53-B5B5-4D90-A210-A8840807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DDC8-CA58-40D1-BEFB-8B054AFF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2D5D-1A25-4A93-9B55-6D8DDA3E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931-C6ED-4C91-8A9B-8B75C342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137-6380-4E3F-90CE-C98210B9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7B7-77B6-4164-B1B6-21C0D912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C0F-961C-4DBE-B268-A8AED046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6E70-40CB-4362-A4F3-B3361DA1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A53-466B-4055-9FAC-59BAC803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824E-49A6-4ADA-837C-430C8EB5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179-898B-4763-B662-0D652549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03646-E62D-4A78-B9CF-8390F96D1E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