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61992"/>
        <c:axId val="92319903"/>
      </c:barChart>
      <c:catAx>
        <c:axId val="268619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19903"/>
        <c:crosses val="autoZero"/>
        <c:auto val="1"/>
        <c:lblAlgn val="ctr"/>
        <c:lblOffset val="100"/>
        <c:noMultiLvlLbl val="0"/>
      </c:catAx>
      <c:valAx>
        <c:axId val="92319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619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14EC-A6AD-484A-B932-C4030D7C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DD99-3483-4221-B3E0-7C76C71E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239F-1EE3-4B45-AAE5-ACA1CEE6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43E-FE9B-49DE-9714-9527B5AD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9EA-45B7-4533-85EF-282ED9EF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4559-437D-4134-9168-47C05279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C0E1-00A5-49C7-9460-CEAEB669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5E46-7829-480F-88B5-C0D24F82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643A-1D40-4DCA-BC48-E77CC980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89A-3C6D-4984-942B-9D2DF9F9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74D-B96F-4BF9-B0B9-E04A0963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17C-0685-4B64-A99E-1030DFF5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02AF5-095B-4F98-8FF1-2E2253F06D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