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142691"/>
        <c:axId val="66801495"/>
      </c:barChart>
      <c:catAx>
        <c:axId val="751426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01495"/>
        <c:crosses val="autoZero"/>
        <c:auto val="1"/>
        <c:lblAlgn val="ctr"/>
        <c:lblOffset val="100"/>
        <c:noMultiLvlLbl val="0"/>
      </c:catAx>
      <c:valAx>
        <c:axId val="668014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426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1450-65BC-4437-89D8-63B53DD4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9101-2784-4C71-85E4-D769748E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9F79-629F-4AD9-9D47-C85E016B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BE5E-7F11-4411-853A-D42DF9B9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668-AAF0-4C5C-BC91-F7446FF7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FFCD-AE05-4E9E-8B48-B907F794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3970-AA27-4A21-A9BF-6D9049CE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FEAA-BF6C-4ADF-B9B2-2EA3DE75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80D0-FA0A-4923-9DDB-8108F4EB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5FD1-E02B-46C4-907F-13D42644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F584-3610-42CF-900D-704EBFA2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A5D9-C186-4D97-ACB3-5B40BD1C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BFB4D-15C4-45BB-94BE-6B4CCE2BB1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