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1286"/>
        <c:axId val="94895651"/>
      </c:barChart>
      <c:catAx>
        <c:axId val="9731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95651"/>
        <c:crosses val="autoZero"/>
        <c:auto val="1"/>
        <c:lblAlgn val="ctr"/>
        <c:lblOffset val="100"/>
        <c:noMultiLvlLbl val="0"/>
      </c:catAx>
      <c:valAx>
        <c:axId val="94895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1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5A5-2C82-4D3F-B555-BCFC3433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782-E671-4ECB-8D65-EA908478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1BB-D477-4F92-8658-D90A8101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4AD-EE76-4EA0-86C8-712FD2BA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E87-1F1B-428A-889B-82D4FA0E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121-B3EA-44B4-B709-1641EF86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F75-EC6F-415E-86B9-A6D1057A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B25-B7E2-4977-B064-7375B7BA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A36-416C-49AC-8C16-9238BF52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7BF-9845-4789-A0C7-AE4881F5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153-FC16-4959-BFBB-A98911BE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B61-A0F3-4DE3-A6FB-74259858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C038D-19F3-4EDB-8174-C166ED6850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