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15354"/>
        <c:axId val="69076087"/>
      </c:barChart>
      <c:catAx>
        <c:axId val="56915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76087"/>
        <c:crosses val="autoZero"/>
        <c:auto val="1"/>
        <c:lblAlgn val="ctr"/>
        <c:lblOffset val="100"/>
        <c:noMultiLvlLbl val="0"/>
      </c:catAx>
      <c:valAx>
        <c:axId val="69076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15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8B0-1324-4923-9B67-1A6B1C82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01F-CBBD-4F20-850C-1118C728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D30-A3C5-49DD-A377-CF8059ED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0D9-F9F3-4583-BE03-5BE121EC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A64-7A7D-4BB8-AC42-33A26E8A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E83-697D-47E8-A4C3-7914753B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A78-3989-4E5D-955A-A3A76625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55C-0163-4776-9C93-67533CCD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F1A-12D5-4F0A-A20D-0DF2B25C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367-C365-47BB-9BC1-CDF3EFB7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9B0-46D3-4B1B-B7F9-9A829600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EA1-B47D-4401-B64E-E9451BEC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016D0-5331-4D7A-B6BB-0FC457700D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