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6853007"/>
        <c:axId val="15744782"/>
      </c:barChart>
      <c:catAx>
        <c:axId val="9685300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744782"/>
        <c:crosses val="autoZero"/>
        <c:auto val="1"/>
        <c:lblAlgn val="ctr"/>
        <c:lblOffset val="100"/>
        <c:noMultiLvlLbl val="0"/>
      </c:catAx>
      <c:valAx>
        <c:axId val="1574478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85300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3470-A8F5-4E43-ADBF-BB18A15DC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EB2E-5A6D-4FC2-9033-7F1C81D07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0C11-2360-4A5E-9217-E29927836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9808-B794-4939-9FAE-3A8A0EA00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BAA4-E9F4-4441-8609-2089990EE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8044-F52E-469B-9925-95EC034B7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F000-06EA-4722-A707-562B2A8AA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51C3-66F9-4E11-B346-566BA6073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4AAC-A120-41E5-B04D-4E2B79CC9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D47B-5D92-4D85-A11F-E144FC8F1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AD3A-05DA-4508-9544-14F804BDD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9DB2-E81A-42F4-9B9A-1CA86EA3B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AF89F7-8A4B-427B-AC97-D230DBF0A79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