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0232373"/>
        <c:axId val="9541680"/>
      </c:barChart>
      <c:catAx>
        <c:axId val="2023237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41680"/>
        <c:crosses val="autoZero"/>
        <c:auto val="1"/>
        <c:lblAlgn val="ctr"/>
        <c:lblOffset val="100"/>
        <c:noMultiLvlLbl val="0"/>
      </c:catAx>
      <c:valAx>
        <c:axId val="954168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23237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A76A8-F83F-434B-8837-F1C9038BB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57B12-BBCD-4F59-B079-8F0AB45CA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4585F-CF85-4544-960D-3A3E56594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09E8A-2A1C-4EF0-8AED-A0A8D1760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63FD5-67D2-49D7-AFAC-7944F391C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A8D21-8B23-4607-B654-2C20D3110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85149-9532-4C17-BD88-0078CFC3F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35D8B-A2CC-4556-BB2B-246594065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ADF87-E739-4E59-80D2-86BC07B44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3DF28-2B0A-460D-BAB9-A96720287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1C955-B9A5-4DAF-90FA-75CD2F73A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53901-FEC2-4B88-948B-EA702D96B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692C39-6A53-44C1-9BEA-55AE93E546A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