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21266"/>
        <c:axId val="41080099"/>
      </c:barChart>
      <c:catAx>
        <c:axId val="96221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0099"/>
        <c:crosses val="autoZero"/>
        <c:auto val="1"/>
        <c:lblAlgn val="ctr"/>
        <c:lblOffset val="100"/>
        <c:noMultiLvlLbl val="0"/>
      </c:catAx>
      <c:valAx>
        <c:axId val="41080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1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23A-9C0D-4672-80C5-CEDECB2B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FFC-C7E1-4F47-8997-29FBFD3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095-CAEB-4196-B4C5-D0E025B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43A-1A41-480D-82F7-0A91A793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659-A00C-4C7D-9F3C-DC97FB6E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28E-9FF8-4D6B-AEB0-82452BCE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4CE-9AE1-47BD-AED1-75135CF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89A-85EE-408E-9AD0-2B18BD58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0E3-769A-4F16-9927-15C43EB0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3CB-4401-4A18-957C-FD714ABE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B23-0EF2-48A2-9A8E-D70C0F68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1A5-92D2-4D6C-86C3-5BE724F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60D6-2226-4C05-ABA1-EF564E54B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