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83011"/>
        <c:axId val="83684780"/>
      </c:barChart>
      <c:catAx>
        <c:axId val="88283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84780"/>
        <c:crosses val="autoZero"/>
        <c:auto val="1"/>
        <c:lblAlgn val="ctr"/>
        <c:lblOffset val="100"/>
        <c:noMultiLvlLbl val="0"/>
      </c:catAx>
      <c:valAx>
        <c:axId val="83684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83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C36-E7CC-411F-B800-F04E5AA1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0A6-EC72-4020-9F98-27DBFC1A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5FC-D925-46CF-9117-AAA1545E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66A-6129-4DD7-AC2C-E3E8F185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45D-65A5-4787-9275-B2AC5E9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EA6-3F85-4054-9E01-BD749A5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415-7D32-4273-9DE4-D702ACE1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654-17E2-4599-9CD8-C66A7C53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CA0-06BB-464E-AFF0-24003DCE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040-C4A1-486D-8763-62728712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D77-BF6B-436C-9321-DF6C663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E70-1C25-47A3-9A49-093B4BC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3394D-3AAF-42E4-815A-0ACFFB2EC0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