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262056"/>
        <c:axId val="54243331"/>
      </c:barChart>
      <c:catAx>
        <c:axId val="692620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243331"/>
        <c:crosses val="autoZero"/>
        <c:auto val="1"/>
        <c:lblAlgn val="ctr"/>
        <c:lblOffset val="100"/>
        <c:noMultiLvlLbl val="0"/>
      </c:catAx>
      <c:valAx>
        <c:axId val="542433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2620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EC34-3D7C-4608-9461-C31D9D47C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FBE0-344A-4407-A2B0-0004490B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B4FC-70AA-460F-8CA8-2249A5EB8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8CBB-D01E-400C-A447-4E8E625ED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E7C2-D487-4FF5-BB88-66829544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A03D-E563-4AB4-BA24-0FBA11BB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5830-180E-465D-8ED3-A3FDDC3D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167B-D4C9-4A10-BECE-0B00DDDF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6013-EDA8-4B0C-87A5-A36C6D85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B43A-CC55-4E84-B33C-510E8F41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4958-D0E5-4037-9E87-5C5A6401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F0B4-7E6A-4F0F-BC9E-15585414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F00261-B9C8-494F-A435-67DE67C512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