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80385"/>
        <c:axId val="10952599"/>
      </c:barChart>
      <c:catAx>
        <c:axId val="42780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52599"/>
        <c:crosses val="autoZero"/>
        <c:auto val="1"/>
        <c:lblAlgn val="ctr"/>
        <c:lblOffset val="100"/>
        <c:noMultiLvlLbl val="0"/>
      </c:catAx>
      <c:valAx>
        <c:axId val="10952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0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676-31D3-4493-BD5A-EB96827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D12-5FA9-4A63-B02E-A56C990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E18-A9B7-40B5-B3D2-8E97DC65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EA3-1A4F-47F6-AD35-8DB4432B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482-7B61-44A7-8E33-B89C49E7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C95-26BF-44AB-92D4-13961B4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26C-9F88-46BA-90E2-73098A62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45A-BCEB-430D-BBFD-795266D2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47B-008D-4079-956C-79320874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50B-1155-4F21-826C-501B4E1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4B2-9A85-49A6-9797-AA5EB97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B95-E5D3-424E-AA5D-B612A53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F51D9-ECA1-4182-A826-B73B6CE67C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