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28838"/>
        <c:axId val="64139271"/>
      </c:barChart>
      <c:catAx>
        <c:axId val="68628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9271"/>
        <c:crosses val="autoZero"/>
        <c:auto val="1"/>
        <c:lblAlgn val="ctr"/>
        <c:lblOffset val="100"/>
        <c:noMultiLvlLbl val="0"/>
      </c:catAx>
      <c:valAx>
        <c:axId val="64139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28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9EE-B546-4CF6-A192-332A89EC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A77-9ACD-45EB-A539-B9FB2AE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F98-5B77-4945-A046-BF22233A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764-2084-436E-BF35-C7719202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FE6-315A-4D9F-A5B7-0E6A016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2A6-C149-40B0-8EF3-614158A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CE1-E4E7-4664-A8C8-E46CA511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E1F-6224-4B8C-BDD2-9EA86B57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9F2-CC70-4FD8-A36D-4016A35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755-8151-46F1-A005-86AF978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FDC-277C-44A7-BD85-0BDC2AD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115-F646-4972-B2AE-54837389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E2EC-B57B-4FA4-84F1-DB294EF14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