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365667"/>
        <c:axId val="52490544"/>
      </c:barChart>
      <c:catAx>
        <c:axId val="16365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90544"/>
        <c:crosses val="autoZero"/>
        <c:auto val="1"/>
        <c:lblAlgn val="ctr"/>
        <c:lblOffset val="100"/>
        <c:noMultiLvlLbl val="0"/>
      </c:catAx>
      <c:valAx>
        <c:axId val="524905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65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5DA5-2D0D-43FD-AF8D-4C1069AC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3BB3-B354-43B7-85C2-CB9657FF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9C39-DB89-4261-9F65-4EA6A738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6B5A-D421-4158-997B-93441A8B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C561-FB48-4521-8165-E7B2BC56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61E5-28DC-4FDA-973C-AFB0834B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3AD8-9553-4B99-87B2-899847E4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CC1C-DA6B-4FF6-BCBB-F5934001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9025-8558-4476-B587-FE525934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65EB-55E0-4982-9999-3D551770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69D3-1D7A-4AED-AFB1-934BD58E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73A2-2716-4778-8890-559D6529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F3109-40D1-4D91-AE04-1C84C34274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