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74021"/>
        <c:axId val="50743612"/>
      </c:barChart>
      <c:catAx>
        <c:axId val="964740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43612"/>
        <c:crosses val="autoZero"/>
        <c:auto val="1"/>
        <c:lblAlgn val="ctr"/>
        <c:lblOffset val="100"/>
        <c:noMultiLvlLbl val="0"/>
      </c:catAx>
      <c:valAx>
        <c:axId val="50743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740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F37-DF2A-4F63-8DE0-659C881C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42A-B696-42A0-B389-CD5BD4FD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C97-BEA9-4F65-BB3B-B292D822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3E3-BA87-4DFF-A60F-E6145F47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0D2-29CD-4E19-934C-3C6837E5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6856-A0EE-41C7-A8B8-8B6CD396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453-ECC7-4417-9BEA-DE0A75FD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FE6-859D-408D-ABFF-732BAFC8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8BA-A40A-4E74-A88A-F91CD4B7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5856-B58D-4F0F-A489-CFE5751B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5A2-10FD-4964-96C1-9AEE5523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5F6-A5A7-494A-89F9-F122F212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27C44-E645-4FDB-8F6D-2683236600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