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736793"/>
        <c:axId val="26328640"/>
      </c:barChart>
      <c:catAx>
        <c:axId val="117367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28640"/>
        <c:crosses val="autoZero"/>
        <c:auto val="1"/>
        <c:lblAlgn val="ctr"/>
        <c:lblOffset val="100"/>
        <c:noMultiLvlLbl val="0"/>
      </c:catAx>
      <c:valAx>
        <c:axId val="263286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367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0102-4849-41CE-A07A-1514CABF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880F-A966-4729-BCA8-264881EA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115F-1D6A-4106-B86C-6ADB4D87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7517-56A4-433F-B433-A5A12AEE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1549-4943-4DB8-817F-C3F0D7FE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8C2-3F36-4488-A0B7-DD47D798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FB13-4EED-47D9-AEF9-049ECED2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DBE4-DE96-4455-AD21-F005CB8D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6E46-708F-4045-B2F6-750B8132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12A7-0511-40EF-A2F9-1FF9176E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482-8D95-4AB5-998A-1C80AC61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BFAD-E477-4CF5-B969-E9BCD3F3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F36F4-A3F3-4057-8026-DDF978C27E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