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91049"/>
        <c:axId val="97938130"/>
      </c:barChart>
      <c:catAx>
        <c:axId val="30691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38130"/>
        <c:crosses val="autoZero"/>
        <c:auto val="1"/>
        <c:lblAlgn val="ctr"/>
        <c:lblOffset val="100"/>
        <c:noMultiLvlLbl val="0"/>
      </c:catAx>
      <c:valAx>
        <c:axId val="97938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91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FD1-C319-4E51-BD1B-99A8183D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4E0-E7C5-4BCD-8A0D-3457B4BD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93E-981D-4F42-8BA5-0F977403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FB8-AFFB-493E-B58A-D0D68081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4E0-E8AB-44DB-A229-0234FCD7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05C-2E04-4A62-A9C8-DE4F71EB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C20-DABE-44AD-A893-DC7DF4C0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DA5-FD9A-4F8E-A56D-B99A7A53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298-C59F-4CAB-BAD5-2E40E19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EB8-103A-4264-8C7B-C820EF7A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AB1-9148-43DE-B193-41CF727C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C8B-A909-47CC-92FC-9CEE4E4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D6AFC-B9C3-41C7-A74C-BD5A3762DD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