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19128"/>
        <c:axId val="48145770"/>
      </c:barChart>
      <c:catAx>
        <c:axId val="41519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45770"/>
        <c:crosses val="autoZero"/>
        <c:auto val="1"/>
        <c:lblAlgn val="ctr"/>
        <c:lblOffset val="100"/>
        <c:noMultiLvlLbl val="0"/>
      </c:catAx>
      <c:valAx>
        <c:axId val="48145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19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F7A-A41D-463F-9A6A-8603DD99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5D0-2BF4-4BE0-A1F3-DB155A72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F4A-DF23-4964-9336-FE5CEB7A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6AC-7AEB-4BEF-A5D9-B1B9C3ED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B5A-0762-407E-9A5F-18A2221D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44F-FFA1-4D59-9DC9-CB792925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9C3-866F-4513-8D12-CE61808B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6CE-7969-4624-AC18-CCFA2E42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1C4-39C0-413E-B8B8-1A03519D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559-0985-4D69-89A2-F2CCC646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BE8-BD54-45D4-A8B9-8E135B0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EE0-6D03-4FDC-A6F7-CF3381DE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AF480-E10E-430D-9026-E06701D188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