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530093"/>
        <c:axId val="18842310"/>
      </c:barChart>
      <c:catAx>
        <c:axId val="64530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42310"/>
        <c:crosses val="autoZero"/>
        <c:auto val="1"/>
        <c:lblAlgn val="ctr"/>
        <c:lblOffset val="100"/>
        <c:noMultiLvlLbl val="0"/>
      </c:catAx>
      <c:valAx>
        <c:axId val="188423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30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4074-D82E-4BD8-A191-08BBD4A0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AA42-B399-4E9B-BC91-8BBA5E8A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E7DF-F547-4532-842D-56AAB104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ED0-9416-41C3-8410-391BD170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8C5-BD55-4BA1-BD2A-F320F0EC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4A61-57FA-4A90-8835-D5A951EC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C21-9892-488B-9B8E-76C79CBF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5E74-64A3-4F34-89B8-C0829321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921A-FB3A-416F-949D-B0EFEA60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0B5B-364A-4569-ABBC-71D9772A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601F-CCAB-4242-9EE0-C9A2FCAF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851A-2D88-49F7-B2A4-44D70908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185AF-8168-4C94-B319-A168B7A4A8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