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26859"/>
        <c:axId val="67535825"/>
      </c:barChart>
      <c:catAx>
        <c:axId val="38226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35825"/>
        <c:crosses val="autoZero"/>
        <c:auto val="1"/>
        <c:lblAlgn val="ctr"/>
        <c:lblOffset val="100"/>
        <c:noMultiLvlLbl val="0"/>
      </c:catAx>
      <c:valAx>
        <c:axId val="675358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26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6AD-3A95-467C-B94C-05286B53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FE4-10E7-45FF-BB9F-655A0E8F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603-822B-468B-B15F-36BFCB4E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555-3DC6-4E0A-B263-D86A2989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40F-EADA-4E49-A23C-D595B5CE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404-47C6-43C2-A05C-A882386B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034-1BE1-463A-8272-E478AF52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9E0-1EBE-484D-9AF2-813E4716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900-0651-4C12-AE85-D8E89A52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6CD-04C3-4955-B32E-355D04B1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19C-64DA-4382-85C0-8F4609C1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76D-78C7-485E-A358-BEF3861B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B8A83-AA95-4CAB-BFF8-FF85B53ECA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