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19101"/>
        <c:axId val="82567072"/>
      </c:barChart>
      <c:catAx>
        <c:axId val="74119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7072"/>
        <c:crosses val="autoZero"/>
        <c:auto val="1"/>
        <c:lblAlgn val="ctr"/>
        <c:lblOffset val="100"/>
        <c:noMultiLvlLbl val="0"/>
      </c:catAx>
      <c:valAx>
        <c:axId val="82567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19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205D-69D4-40E6-A102-0034629C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B3E-5E1D-4060-A421-A3108AD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A31-85F0-4E81-B286-1A7E4D9B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424-2E0F-40F6-96A6-1E374CB8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08D-A0F2-46C4-938D-88377A6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572-7ABA-43DA-973C-F53BBE8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B10-DC40-4D5E-88FA-43E7FDC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ADD-5AB6-4A44-BF8D-88EF4781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708-EA07-4075-B67E-5FE4E90D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91B-49AF-4E3C-9E5E-ABA2376A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2F1-AA17-444F-80F5-4A3BE5D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97E-CAD4-4C64-98BC-69FF2DD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67CDF-3351-4D0F-A167-F8B4186D40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