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86826"/>
        <c:axId val="29335436"/>
      </c:barChart>
      <c:catAx>
        <c:axId val="52286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35436"/>
        <c:crosses val="autoZero"/>
        <c:auto val="1"/>
        <c:lblAlgn val="ctr"/>
        <c:lblOffset val="100"/>
        <c:noMultiLvlLbl val="0"/>
      </c:catAx>
      <c:valAx>
        <c:axId val="29335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86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770-1459-47D5-BA28-950A5B97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621-4596-482B-90C6-EFD7F56E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0E3-96AF-4E10-B1FE-EBA24763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9DE-6957-4EA9-8E92-2EAEC362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C7E-744C-42CB-A940-AD6423EB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07E-7252-435C-91A7-437BC8C1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5EE-4140-4B6D-9408-CD08D402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197-89D1-488C-A478-38243C7C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1EC-7DAC-4DA4-A14D-7DAE4511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F6B-8675-48A4-9642-0F0F16F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010-7351-4482-BF75-B1BF1073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F14-B56D-4556-B193-CBCCA86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32004-C123-4444-A94F-799DB3415A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