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43651"/>
        <c:axId val="69393603"/>
      </c:barChart>
      <c:catAx>
        <c:axId val="942436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93603"/>
        <c:crosses val="autoZero"/>
        <c:auto val="1"/>
        <c:lblAlgn val="ctr"/>
        <c:lblOffset val="100"/>
        <c:noMultiLvlLbl val="0"/>
      </c:catAx>
      <c:valAx>
        <c:axId val="69393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436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91E2-427A-48EE-8251-2DBAA838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28D-E5BA-4296-8694-9F2B6D3A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7D6-F0AB-410F-9768-1523887B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872-CCF6-42FB-93E2-D1D9A892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674-8943-4605-A4A4-3EF87C35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AED-6DDA-4992-ADA0-7B9B8E0B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C1B-DDDB-472D-8E6D-F8416414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C01-3961-469A-BA72-1C9D48B5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013D-CD37-47D8-BD93-5E545CA1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CF37-C353-4883-ADA8-249BC744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F820-A157-4E91-B93F-11168B50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6561-0010-435C-A324-BEE87556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DD113-9137-4A94-A71B-ACD59715D4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