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7815"/>
        <c:axId val="55334628"/>
      </c:barChart>
      <c:catAx>
        <c:axId val="37917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34628"/>
        <c:crosses val="autoZero"/>
        <c:auto val="1"/>
        <c:lblAlgn val="ctr"/>
        <c:lblOffset val="100"/>
        <c:noMultiLvlLbl val="0"/>
      </c:catAx>
      <c:valAx>
        <c:axId val="55334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7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577-59C8-485F-9099-530ED147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C1-B82D-4808-BFAC-FB54AEA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AF8-1FC3-43BB-BAEB-EBEFA011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B8F-7109-47C3-B6B8-A49CFA4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FBC-B8FB-41A0-B021-C3E831A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3B5-739D-46D1-9084-B0CC1117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711-CFA5-489C-A4EB-CB9A208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2C7-7B22-40B1-B87D-FF7AE1AE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F69-6ABC-4384-8251-4334B39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FB0-EFBC-4F74-8187-DD85642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DE3-1D88-4BE0-8EDA-957EBE4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84-22B3-4633-B9A4-A91AC958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252D5-B826-4E70-8B52-C18699830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